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329600" y="6156360"/>
            <a:ext cx="1673280" cy="5792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050320" y="152280"/>
            <a:ext cx="1093680" cy="88128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latform &amp; Produ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X75 S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731080" y="138240"/>
            <a:ext cx="246240" cy="1872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7075440" y="152280"/>
            <a:ext cx="920880" cy="88128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Statu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15.04. 200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52440" y="6467400"/>
            <a:ext cx="250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rner/Feldhoff, PL-Ts Min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329600" y="6156360"/>
            <a:ext cx="1673280" cy="5792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4960800"/>
            <a:ext cx="9144000" cy="10321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nos Status:    Timeline until DS 15.09.05 critic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428400" y="5303520"/>
            <a:ext cx="137880" cy="135000"/>
          </a:xfrm>
          <a:prstGeom prst="triangle">
            <a:avLst>
              <a:gd name="adj" fmla="val 50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87680" y="1397160"/>
            <a:ext cx="7029360" cy="3118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 marL="87480" indent="-87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ject Status, Timeline, Mileston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S (15.09.05) is only valid if preconditions are fulfill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conditions for reaching DS on 15.09.05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1+ evaluation must be finished (B1+ SW content requir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2-Tapeout not later than 04.05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tabilized IDB-SW (not R-IDB) available by end of CW19 (S25_TA_freez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2 HW is final ver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F-parameters are f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100 reference devices are available on 27.05.05 for ST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inos must have first priority in prototype shop (CW20 – CW23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&gt; due to lack of production capacity [five products at the same time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979560" y="2135160"/>
            <a:ext cx="363600" cy="1038240"/>
            <a:chOff x="979560" y="2135160"/>
            <a:chExt cx="363600" cy="1038240"/>
          </a:xfrm>
        </p:grpSpPr>
        <p:sp>
          <p:nvSpPr>
            <p:cNvPr id="93" name=""/>
            <p:cNvSpPr/>
            <p:nvPr/>
          </p:nvSpPr>
          <p:spPr>
            <a:xfrm rot="5400000">
              <a:off x="641880" y="2472480"/>
              <a:ext cx="1038240" cy="363600"/>
            </a:xfrm>
            <a:prstGeom prst="rect">
              <a:avLst/>
            </a:prstGeom>
            <a:solidFill>
              <a:srgbClr val="afc2c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rot="5400000">
              <a:off x="1058040" y="2218320"/>
              <a:ext cx="204840" cy="20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rot="5400000">
              <a:off x="1058040" y="2223000"/>
              <a:ext cx="204840" cy="200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rot="5400000">
              <a:off x="1058400" y="2894760"/>
              <a:ext cx="204480" cy="20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rot="5400000">
              <a:off x="1065240" y="2565000"/>
              <a:ext cx="20484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181080" y="2509920"/>
            <a:ext cx="118404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i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0-12-31T22:00:00Z</dcterms:created>
  <dc:creator/>
  <dc:description/>
  <dc:language>en-US</dc:language>
  <cp:lastModifiedBy/>
  <cp:lastPrinted>1900-12-31T22:00:00Z</cp:lastPrinted>
  <dcterms:modified xsi:type="dcterms:W3CDTF">2005-04-15T16:12:30Z</dcterms:modified>
  <cp:revision>2</cp:revision>
  <dc:subject/>
  <dc:title>Minos Status:    Timeline until DS 15.09.05 critic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81314069</vt:r8>
  </property>
</Properties>
</file>